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5.xml.rels" ContentType="application/vnd.openxmlformats-package.relationships+xml"/>
  <Override PartName="/ppt/notesSlides/_rels/notesSlide38.xml.rels" ContentType="application/vnd.openxmlformats-package.relationships+xml"/>
  <Override PartName="/ppt/notesSlides/notesSlide38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EA4B-0C73-4170-A5E1-7E40B6BFD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D237-5968-4A91-AF86-66293E52E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920F-3650-459F-ACDA-1CC4CAA98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D284-A53F-4E22-A12D-04CA7D6A7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FCB7-FC40-4E60-9B61-986BC2ED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BABB-726B-4585-A01F-7A14AF6CD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5F62-8A35-41B8-947C-6CFAC133C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7566-F937-4B9F-A489-8E880796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C39B-3FD7-40F8-93B5-E8548DFD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7837-FBEB-4DA6-870B-EF1F040F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E2CF-EEDD-4A46-9F0E-FFEF2D6A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5957-CF50-433C-A4A2-7CAA9F2B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9FAA-8A7B-4637-8EC7-1AFAD5DB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8A59-43F0-4FD0-8122-CA89405E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AF41-773E-480F-A720-7005EF98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EA97-73AF-46A2-A84A-02812DB8CE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ending ACT-R 6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an Both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metho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plified vi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function which specifies the “type” of some of its argu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 use the same method name with different ty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sp calls the right 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ing new ones doesn’t disturb existing 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efmethod what-is-it ((x number)) (pprint "It is a number")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efmethod what-is-it ((x string)) (pprint "It is a string")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efmethod what-is-it ((x list)) (pprint "It is a list")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(what-is-it 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It is a number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(what-is-it nil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It is a list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(what-is-it "foo"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It is a string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vice’s motor interface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ice-handle-keyp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ice-handle-cli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ice-move-cursor-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t-mouse-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vice-handle-keypr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led whenever the motor module makes a keypress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ssed two para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urrent de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haracter of the key pressed by the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turn value is igno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vice-handle-cli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led whenever the model clicks the mou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ssed one parame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urrent de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turn value is igno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vice-move-cursor-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led whenever the model moves the m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ssed two para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urrent de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two element vector containing the x,y 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turn value is igno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t-mouse-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led whenever the motor module needs to know the mouse’s lo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ssed one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urrent de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st return a two element vector of x,y 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for a simple dev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ume we want to use a list as a dev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ore as to why la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n’t have any real a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Just print out the inform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est to provide the methods for the device even if not used by the model to be saf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e: using globals not advised in the context of multiple models or dev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eep that info “in” the devi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0384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(defvar *mouse-pos* (vector 0 0)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(defmethod device-move-cursor-to ((device list) loc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(model-output "Model moved mouse to ~A" loc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(setf *mouse-pos* loc)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(defmethod get-mouse-coordinates ((device list)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*mouse-pos*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(defmethod device-handle-click ((device list)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(model-output "Model clicked the mouse")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(defmethod device-handle-keypress ((device list) key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(model-output "Model pressed key ~c" key)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vice’s speech interface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ice-speak-st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led whenever the model does a speak 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rrent dev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tring of the model’s speech out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urn value igno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defmethod device-speak-string ((device list) string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model-output "Model said ~s" string)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vice’s vision interface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d-features-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at-to-dm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sor-to-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d-vis-locs-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sor-to-vis-lo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s-loc-to-ob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&quot;No&quot; Symbol 3"/>
          <p:cNvSpPr/>
          <p:nvPr/>
        </p:nvSpPr>
        <p:spPr>
          <a:xfrm>
            <a:off x="990720" y="1371600"/>
            <a:ext cx="2514600" cy="2209680"/>
          </a:xfrm>
          <a:custGeom>
            <a:avLst/>
            <a:gdLst>
              <a:gd name="textAreaLeft" fmla="*/ 368280 w 2514600"/>
              <a:gd name="textAreaRight" fmla="*/ 2146320 w 2514600"/>
              <a:gd name="textAreaTop" fmla="*/ 323640 h 2209680"/>
              <a:gd name="textAreaBottom" fmla="*/ 1886040 h 2209680"/>
            </a:gdLst>
            <a:ahLst/>
            <a:rect l="textAreaLeft" t="textAreaTop" r="textAreaRight" b="textAreaBottom"/>
            <a:pathLst>
              <a:path w="2514600" h="2209800">
                <a:moveTo>
                  <a:pt x="0" y="1104900"/>
                </a:moveTo>
                <a:lnTo>
                  <a:pt x="0" y="1104900"/>
                </a:lnTo>
                <a:arcTo wR="1257300" hR="1104900" stAng="-10799997" swAng="5400003"/>
                <a:lnTo>
                  <a:pt x="1257302" y="1"/>
                </a:lnTo>
                <a:arcTo wR="1257300" hR="1104900" stAng="-5399997" swAng="5400002"/>
                <a:lnTo>
                  <a:pt x="2514601" y="1104903"/>
                </a:lnTo>
                <a:arcTo wR="1257300" hR="1104900" stAng="0" swAng="5400003"/>
                <a:lnTo>
                  <a:pt x="1257300" y="2209803"/>
                </a:lnTo>
                <a:arcTo wR="1257300" hR="1104900" stAng="5400003" swAng="5400000"/>
                <a:close/>
                <a:moveTo>
                  <a:pt x="1980265" y="1460012"/>
                </a:moveTo>
                <a:lnTo>
                  <a:pt x="1980265" y="1460012"/>
                </a:lnTo>
                <a:arcTo wR="842962" hR="690562" stAng="1569584" swAng="-8982142"/>
                <a:close/>
                <a:moveTo>
                  <a:pt x="534335" y="749788"/>
                </a:moveTo>
                <a:lnTo>
                  <a:pt x="534335" y="749788"/>
                </a:lnTo>
                <a:arcTo wR="842962" hR="690562" stAng="-9230422" swAng="-8982136"/>
                <a:close/>
              </a:path>
            </a:pathLst>
          </a:custGeom>
          <a:solidFill>
            <a:srgbClr val="c0504d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ild-vis-locs-f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lled as part of proc-displa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assed two valu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current devi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current vision modu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ust return a list of chunks which are “isa visual-location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y subtype of visual-loc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ose chunks are copied and constitute the model’s visic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fore we st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alking about the ACT-R 6.0 software syst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t the cognitive archite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system was designed for the theo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t generally constrained by the theory or cognitive plausi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ssume that you can program in Lis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t least able to read Lisp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ssume you can model in ACT-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amiliar with the general operation of the syste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Know the basic comman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sor-to-vis-lo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lled as part of proc-display and when the mouse is mov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assed one valu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current devi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ust return a chunk which is a subtype of visual-location or ni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lled to generate the feature for the mouse cursor for the visic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n update outside of a proc-displa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s-loc-to-ob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lled when the model moves attention to a visual featur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assed two valu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current devi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visual-location chunk of the fea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ne of the ones that build-vis-locs-for provid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ust return a chunk which “isa visual-object” or return ni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at chunk will be the one copied into the visual buffer when encoding comple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list dev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fore looking at examples of the methods we need to define exactly how our list is to be used as the de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r device list will consist of pairs where the car of the pair is a visual-location chunk and the cdr is the visual-object chunk which corresponds to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simplicity, we’ll assume that the model will not need a feature for the mouse curs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visual methods for the list devi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defmethod cursor-to-vis-loc ((device list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i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defmethod build-vis-locs-for ((device list) vismo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mapcar 'car device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defmethod vis-loc-to-obj ((device list) vis-lo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cdr (assoc vis-loc device)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ually creating and using o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6840" y="1600200"/>
            <a:ext cx="2438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reate some new chunk-types to us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reate the chunk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Build the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nstall  the devic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all proc-displa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un the mod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defun do-experiment (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chunk-type (polygon-feature (:include visual-location)) regula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chunk-type (polygon (:include visual-object)) side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chunk-type (square (:include polygon)) (sides 4)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let* ((visual-location-chunks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define-chunks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isa visual-location screen-x 10 screen-y 20 kind ova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oval height 10 width 40 color blue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isa polygon-feature screen-x 10 screen-y 50 kind square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square height 30 width 30 color red regular t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isa polygon-feature screen-x 50 screen-y 50 kind polygo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polygon height 50 width 40 color blue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isa polygon-feature screen-x 90 screen-y 70 kind polygo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polygon height 50 width 45 color green))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visual-object-chunks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define-chunk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isa oval value "The oval" height 10 width 40 color blue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isa square value "square" height 30 width 30 color red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isa polygon value "Poly1" height 20 width 40 color blue sides 7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isa polygon value "Poly2" height 50 width 45 color green sides 5))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the-device (pairlis visual-location-chunks visual-object-chunks))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install-device the-device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proc-display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run 10))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ine-chun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general command to create chun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st creates the chunks as specified and returns the list of their na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ot like add-dm (which you should know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hunk descriptions are the same for bo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-dm actually uses define-chunk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-dm explicitly places those chunks into the declarative memory of the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re on creating de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 was a simple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-generated features and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ill probably useful for some modeling 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examples available with the new-vision distrib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ttle more advanc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ver some additional components avail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modul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t can be any “thing” you wa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lot like a dev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ead of methods it’s defined by a set of fun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little more freedo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ssibly a little less intimida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t is a component of the syste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vailable to all mode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o real restrictions on what it can d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 cognitive compon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 tracing/debugging to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ifier of parameters for other modu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interface to some external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requirements of a mo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na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symbol not already naming a modu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sion and documentation string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y parameters the module requir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unctions whi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eate a new instance when a model is cre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et an instance when the model is res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t/return the parameters’ values for the modu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lete the instance when the model is dele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face to procedural modul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ffer(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est fun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ery fun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create o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y the definition of the module using the define-module comm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defun define-module-fct (name buffers params-li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key version document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on reset params delet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est query …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ware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n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ing De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ng mod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things to no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st be defined outside of any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mmended that it happen in a file which gets loaded with the main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not redefine one after it’s cre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it’s created you need to undefine it if you want to change the defin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define-modu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r new module: Demo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milar to the imaginal modu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ll have two buff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ests create new chunks for the buffe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as a time cost (when :esc set to t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akes requests which just print out a value in the tra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appens immediatel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s one parame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create-delay which specifies how long to take in creating the chunk when :esc is set to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lete code for this module available in the examples/creating-modules directo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mo-module and demo-mod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will our module instance b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ck something to use as an instance for the modu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model will have its own instance of the modu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ortant when there are multiple mod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this one we’ll use a structu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slots to hold the parameter val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e slot to keep track of whether the module is bus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defstruct demo-module delay esc bus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rt defining the mo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282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f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s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sion and doc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hown by mp-print-versions comma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inted after initial system load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50496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define-module-fct 'demo ???? ????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version "1.0a1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Demo module for ICCM tutorial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mp-print-version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CT-R Version Informatio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work     : 1.2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MO          : 1.0a1 Demo module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thing is the buf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’re maintained by th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ule doesn’t need to do anything other than specify their nam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be unique among the buff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define-module-fct 'demo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'(create output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????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version "1.0a1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documentation "Demo module for ICCM tutorial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gs other than the name can be specifi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e the reference manu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ame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fined in conjunction with the modul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module is responsible for maintaining the valu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system takes care of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itializ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ing them available to the us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ecking values for valid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sers access them through the sgp comman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gp calls the module’s param function to get the current value when reques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gp calls the module’s param function to set a new value when a valid value is provided by the us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ining Parame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 parameter consists of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 nam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ust be a keywor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cument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 str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ault-valu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he initial value to set upon model rese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unction to check for validity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Used by sgp to test user value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assed the user’s requested value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f it returns non-nil the value is considered vali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arning to print when invalid value give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tring that goes at the end of this warning message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#|Warning: Parameter </a:t>
            </a:r>
            <a:r>
              <a:rPr b="1" i="1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cannot take value 3 because it must be </a:t>
            </a:r>
            <a:r>
              <a:rPr b="1" i="1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warn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. |#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dication of ownershi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 or ni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he owner is called to get the current valu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on-owners are notified when the parameter chang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(defun define-parameter (param-name &amp;key (documentation "") (default-value nil)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(valid-test nil) (warning "") (owner t)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hat ties into the mo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1600200"/>
            <a:ext cx="228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third parameter to define-module is a list of parameters for the modu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fine-parameter just creates an abstract parame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needs to be part of a module definition to become available to the mod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6668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define-module-fct 'demo '(create output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  <a:ea typeface="Courier New"/>
              </a:rPr>
              <a:t>(list (define-parameter :create-dela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  <a:ea typeface="Courier New"/>
              </a:rPr>
              <a:t>:document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           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  <a:ea typeface="Courier New"/>
              </a:rPr>
              <a:t>"time to create the chunk for the demo module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  <a:ea typeface="Courier New"/>
              </a:rPr>
              <a:t>:default-value 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  <a:ea typeface="Courier New"/>
              </a:rPr>
              <a:t>:valid-test (lambda (x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                        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  <a:ea typeface="Courier New"/>
              </a:rPr>
              <a:t>(and (numberp x) (&gt;= x 0))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  <a:ea typeface="Courier New"/>
              </a:rPr>
              <a:t>:warning "Non-negative number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  <a:ea typeface="Courier New"/>
              </a:rPr>
              <a:t>:owner 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  <a:ea typeface="Courier New"/>
              </a:rPr>
              <a:t>(define-parameter :esc :owner nil)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version "1.0a1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documentation "Demo module for ICCM tutorial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arams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will be called by sgp with two valu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current model’s instance of the modu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second will be eith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parameter name if it is asking for the current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cons of the parameter name and the new value to se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ould return the current value if it is the owning modu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so called during model reset to set the default valu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fter the module’s primary reset fun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params function op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6840" y="1600200"/>
            <a:ext cx="289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ave our parameter when the user changes 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e the value of :esc when it’s chang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turn the :create-delay value when the user requests 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276720" y="1676160"/>
            <a:ext cx="5410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defun demo-module-params (demo par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if (consp par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case (car par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:create-dela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setf (demo-module-delay demo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cdr param)))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:es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setf (demo-module-esc demo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cdr param)))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case para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:create-dela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demo-module-delay demo))))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CT-R software (general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685800" y="914400"/>
            <a:ext cx="7848720" cy="5791320"/>
          </a:xfrm>
          <a:prstGeom prst="rect">
            <a:avLst/>
          </a:prstGeom>
          <a:solidFill>
            <a:srgbClr val="7f7f7f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R 6.0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914400" y="1295280"/>
            <a:ext cx="6019920" cy="52578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Calibri"/>
              </a:rPr>
              <a:t>Lisp based 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990720" y="2362320"/>
            <a:ext cx="5790960" cy="358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Calibri"/>
              </a:rPr>
              <a:t>Meta-process(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990720" y="1676520"/>
            <a:ext cx="281916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Calibri"/>
              </a:rPr>
              <a:t>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Calibri"/>
              </a:rPr>
              <a:t>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6"/>
          <p:cNvSpPr/>
          <p:nvPr/>
        </p:nvSpPr>
        <p:spPr>
          <a:xfrm>
            <a:off x="2057400" y="1752480"/>
            <a:ext cx="3808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7"/>
          <p:cNvSpPr/>
          <p:nvPr/>
        </p:nvSpPr>
        <p:spPr>
          <a:xfrm>
            <a:off x="2286000" y="1981080"/>
            <a:ext cx="3808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8"/>
          <p:cNvSpPr/>
          <p:nvPr/>
        </p:nvSpPr>
        <p:spPr>
          <a:xfrm>
            <a:off x="2514600" y="1752480"/>
            <a:ext cx="3808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5"/>
          <p:cNvSpPr/>
          <p:nvPr/>
        </p:nvSpPr>
        <p:spPr>
          <a:xfrm>
            <a:off x="5791320" y="2438280"/>
            <a:ext cx="914400" cy="304920"/>
          </a:xfrm>
          <a:prstGeom prst="rect">
            <a:avLst/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6"/>
          <p:cNvSpPr/>
          <p:nvPr/>
        </p:nvSpPr>
        <p:spPr>
          <a:xfrm>
            <a:off x="5791320" y="2819520"/>
            <a:ext cx="914400" cy="16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f81bd"/>
                </a:solidFill>
                <a:latin typeface="Calibri"/>
              </a:rPr>
              <a:t>Event que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7"/>
          <p:cNvSpPr/>
          <p:nvPr/>
        </p:nvSpPr>
        <p:spPr>
          <a:xfrm>
            <a:off x="3962520" y="1676520"/>
            <a:ext cx="281916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Calibri"/>
              </a:rPr>
              <a:t>Gene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Calibri"/>
              </a:rPr>
              <a:t>Lisp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28"/>
          <p:cNvSpPr/>
          <p:nvPr/>
        </p:nvSpPr>
        <p:spPr>
          <a:xfrm>
            <a:off x="5715000" y="1752480"/>
            <a:ext cx="304920" cy="152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32"/>
          <p:cNvSpPr/>
          <p:nvPr/>
        </p:nvSpPr>
        <p:spPr>
          <a:xfrm>
            <a:off x="4952880" y="1752480"/>
            <a:ext cx="304920" cy="152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33"/>
          <p:cNvSpPr/>
          <p:nvPr/>
        </p:nvSpPr>
        <p:spPr>
          <a:xfrm>
            <a:off x="5334120" y="1752480"/>
            <a:ext cx="304560" cy="152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nip Single Corner Rectangle 37"/>
          <p:cNvSpPr/>
          <p:nvPr/>
        </p:nvSpPr>
        <p:spPr>
          <a:xfrm flipH="1">
            <a:off x="5942880" y="3124080"/>
            <a:ext cx="609480" cy="2286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nip Single Corner Rectangle 38"/>
          <p:cNvSpPr/>
          <p:nvPr/>
        </p:nvSpPr>
        <p:spPr>
          <a:xfrm flipH="1">
            <a:off x="5942880" y="3429000"/>
            <a:ext cx="609480" cy="2286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nip Single Corner Rectangle 39"/>
          <p:cNvSpPr/>
          <p:nvPr/>
        </p:nvSpPr>
        <p:spPr>
          <a:xfrm flipH="1">
            <a:off x="5942880" y="3733920"/>
            <a:ext cx="609480" cy="2286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1"/>
          <p:cNvSpPr/>
          <p:nvPr/>
        </p:nvSpPr>
        <p:spPr>
          <a:xfrm>
            <a:off x="1143000" y="2743200"/>
            <a:ext cx="4572000" cy="31240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Calibri"/>
              </a:rPr>
              <a:t>Model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2"/>
          <p:cNvSpPr/>
          <p:nvPr/>
        </p:nvSpPr>
        <p:spPr>
          <a:xfrm>
            <a:off x="4724280" y="3581280"/>
            <a:ext cx="914400" cy="1143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f81bd"/>
                </a:solidFill>
                <a:latin typeface="Calibri"/>
              </a:rPr>
              <a:t>Chunk(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nip Same Side Corner Rectangle 49"/>
          <p:cNvSpPr/>
          <p:nvPr/>
        </p:nvSpPr>
        <p:spPr>
          <a:xfrm>
            <a:off x="1676520" y="3505320"/>
            <a:ext cx="457200" cy="304560"/>
          </a:xfrm>
          <a:prstGeom prst="pi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81bd"/>
                </a:solidFill>
                <a:latin typeface="Calibri"/>
              </a:rPr>
              <a:t>A</a:t>
            </a:r>
            <a:r>
              <a:rPr b="0" lang="en-US" sz="1200" spc="-1" strike="noStrike" baseline="-25000">
                <a:solidFill>
                  <a:srgbClr val="4f81bd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nip Same Side Corner Rectangle 50"/>
          <p:cNvSpPr/>
          <p:nvPr/>
        </p:nvSpPr>
        <p:spPr>
          <a:xfrm>
            <a:off x="2362320" y="4495680"/>
            <a:ext cx="457200" cy="304920"/>
          </a:xfrm>
          <a:prstGeom prst="pi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81bd"/>
                </a:solidFill>
                <a:latin typeface="Calibri"/>
              </a:rPr>
              <a:t>B</a:t>
            </a:r>
            <a:r>
              <a:rPr b="0" lang="en-US" sz="1200" spc="-1" strike="noStrike" baseline="-25000">
                <a:solidFill>
                  <a:srgbClr val="4f81bd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nip Same Side Corner Rectangle 51"/>
          <p:cNvSpPr/>
          <p:nvPr/>
        </p:nvSpPr>
        <p:spPr>
          <a:xfrm>
            <a:off x="3505320" y="3505320"/>
            <a:ext cx="457200" cy="304560"/>
          </a:xfrm>
          <a:prstGeom prst="pi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81bd"/>
                </a:solidFill>
                <a:latin typeface="Calibri"/>
              </a:rPr>
              <a:t>C</a:t>
            </a:r>
            <a:r>
              <a:rPr b="0" lang="en-US" sz="1200" spc="-1" strike="noStrike" baseline="-25000">
                <a:solidFill>
                  <a:srgbClr val="4f81bd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Straight Arrow Connector 53"/>
          <p:cNvCxnSpPr>
            <a:stCxn id="59" idx="4"/>
            <a:endCxn id="73" idx="4"/>
          </p:cNvCxnSpPr>
          <p:nvPr/>
        </p:nvCxnSpPr>
        <p:spPr>
          <a:xfrm flipH="1">
            <a:off x="1904760" y="1904760"/>
            <a:ext cx="343440" cy="1600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7" name="Straight Arrow Connector 57"/>
          <p:cNvCxnSpPr>
            <a:stCxn id="60" idx="4"/>
            <a:endCxn id="74" idx="4"/>
          </p:cNvCxnSpPr>
          <p:nvPr/>
        </p:nvCxnSpPr>
        <p:spPr>
          <a:xfrm>
            <a:off x="2476440" y="2133360"/>
            <a:ext cx="115200" cy="236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8" name="Straight Arrow Connector 60"/>
          <p:cNvCxnSpPr>
            <a:stCxn id="61" idx="4"/>
            <a:endCxn id="75" idx="4"/>
          </p:cNvCxnSpPr>
          <p:nvPr/>
        </p:nvCxnSpPr>
        <p:spPr>
          <a:xfrm>
            <a:off x="2705040" y="1904760"/>
            <a:ext cx="1029600" cy="1600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9" name="Rectangle 66"/>
          <p:cNvSpPr/>
          <p:nvPr/>
        </p:nvSpPr>
        <p:spPr>
          <a:xfrm>
            <a:off x="4724280" y="2819520"/>
            <a:ext cx="9144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f81bd"/>
                </a:solidFill>
                <a:latin typeface="Calibri"/>
              </a:rPr>
              <a:t>Chunk-type(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8"/>
          <p:cNvSpPr/>
          <p:nvPr/>
        </p:nvSpPr>
        <p:spPr>
          <a:xfrm>
            <a:off x="4724280" y="4800600"/>
            <a:ext cx="914400" cy="990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81bd"/>
                </a:solidFill>
                <a:latin typeface="Calibri"/>
              </a:rPr>
              <a:t>Para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lowchart: Multidocument 70"/>
          <p:cNvSpPr/>
          <p:nvPr/>
        </p:nvSpPr>
        <p:spPr>
          <a:xfrm>
            <a:off x="4800600" y="5105520"/>
            <a:ext cx="380880" cy="228600"/>
          </a:xfrm>
          <a:prstGeom prst="flowChartMultidocumen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lowchart: Multidocument 71"/>
          <p:cNvSpPr/>
          <p:nvPr/>
        </p:nvSpPr>
        <p:spPr>
          <a:xfrm>
            <a:off x="4952880" y="5486400"/>
            <a:ext cx="381240" cy="228600"/>
          </a:xfrm>
          <a:prstGeom prst="flowChartMultidocumen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Straight Arrow Connector 73"/>
          <p:cNvCxnSpPr>
            <a:stCxn id="75" idx="5"/>
            <a:endCxn id="81" idx="1"/>
          </p:cNvCxnSpPr>
          <p:nvPr/>
        </p:nvCxnSpPr>
        <p:spPr>
          <a:xfrm>
            <a:off x="3732840" y="3809880"/>
            <a:ext cx="1067400" cy="141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4" name="Straight Arrow Connector 76"/>
          <p:cNvCxnSpPr>
            <a:stCxn id="74" idx="5"/>
            <a:endCxn id="82" idx="1"/>
          </p:cNvCxnSpPr>
          <p:nvPr/>
        </p:nvCxnSpPr>
        <p:spPr>
          <a:xfrm>
            <a:off x="2589840" y="4800240"/>
            <a:ext cx="2362680" cy="80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5" name="Straight Arrow Connector 81"/>
          <p:cNvCxnSpPr>
            <a:stCxn id="73" idx="5"/>
            <a:endCxn id="79" idx="1"/>
          </p:cNvCxnSpPr>
          <p:nvPr/>
        </p:nvCxnSpPr>
        <p:spPr>
          <a:xfrm flipV="1">
            <a:off x="2133720" y="3161880"/>
            <a:ext cx="2591280" cy="49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Straight Arrow Connector 84"/>
          <p:cNvCxnSpPr>
            <a:stCxn id="74" idx="6"/>
            <a:endCxn id="79" idx="1"/>
          </p:cNvCxnSpPr>
          <p:nvPr/>
        </p:nvCxnSpPr>
        <p:spPr>
          <a:xfrm flipV="1">
            <a:off x="2819160" y="3161880"/>
            <a:ext cx="1905480" cy="1486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" name="Straight Arrow Connector 88"/>
          <p:cNvCxnSpPr>
            <a:stCxn id="73" idx="6"/>
            <a:endCxn id="72" idx="1"/>
          </p:cNvCxnSpPr>
          <p:nvPr/>
        </p:nvCxnSpPr>
        <p:spPr>
          <a:xfrm>
            <a:off x="2133720" y="3657600"/>
            <a:ext cx="2591280" cy="49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8" name="Straight Arrow Connector 91"/>
          <p:cNvCxnSpPr>
            <a:stCxn id="75" idx="6"/>
            <a:endCxn id="72" idx="1"/>
          </p:cNvCxnSpPr>
          <p:nvPr/>
        </p:nvCxnSpPr>
        <p:spPr>
          <a:xfrm>
            <a:off x="3962520" y="3657600"/>
            <a:ext cx="762480" cy="49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9" name="Rectangle 102"/>
          <p:cNvSpPr/>
          <p:nvPr/>
        </p:nvSpPr>
        <p:spPr>
          <a:xfrm>
            <a:off x="4800600" y="3048120"/>
            <a:ext cx="762120" cy="2286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f81bd"/>
                </a:solidFill>
                <a:latin typeface="Calibri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03"/>
          <p:cNvSpPr/>
          <p:nvPr/>
        </p:nvSpPr>
        <p:spPr>
          <a:xfrm>
            <a:off x="4800600" y="3276720"/>
            <a:ext cx="762120" cy="2286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f81bd"/>
                </a:solidFill>
                <a:latin typeface="Calibri"/>
              </a:rPr>
              <a:t>Slo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4"/>
          <p:cNvSpPr/>
          <p:nvPr/>
        </p:nvSpPr>
        <p:spPr>
          <a:xfrm>
            <a:off x="4800600" y="3809880"/>
            <a:ext cx="762120" cy="2286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f81bd"/>
                </a:solidFill>
                <a:latin typeface="Calibri"/>
              </a:rPr>
              <a:t>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5"/>
          <p:cNvSpPr/>
          <p:nvPr/>
        </p:nvSpPr>
        <p:spPr>
          <a:xfrm>
            <a:off x="4800600" y="4038480"/>
            <a:ext cx="762120" cy="2286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f81bd"/>
                </a:solidFill>
                <a:latin typeface="Calibri"/>
              </a:rPr>
              <a:t>Na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6"/>
          <p:cNvSpPr/>
          <p:nvPr/>
        </p:nvSpPr>
        <p:spPr>
          <a:xfrm>
            <a:off x="4800600" y="4267080"/>
            <a:ext cx="762120" cy="2286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f81bd"/>
                </a:solidFill>
                <a:latin typeface="Calibri"/>
              </a:rPr>
              <a:t>Slot valu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7"/>
          <p:cNvSpPr/>
          <p:nvPr/>
        </p:nvSpPr>
        <p:spPr>
          <a:xfrm>
            <a:off x="4800600" y="4495680"/>
            <a:ext cx="762120" cy="2286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f81bd"/>
                </a:solidFill>
                <a:latin typeface="Calibri"/>
              </a:rPr>
              <a:t>Paramet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Straight Arrow Connector 124"/>
          <p:cNvCxnSpPr>
            <a:stCxn id="73" idx="7"/>
            <a:endCxn id="94" idx="1"/>
          </p:cNvCxnSpPr>
          <p:nvPr/>
        </p:nvCxnSpPr>
        <p:spPr>
          <a:xfrm>
            <a:off x="2133720" y="3657600"/>
            <a:ext cx="2667240" cy="953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gress 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efine-module-fct 'demo '(create output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list (define-parameter :create-delay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documentatio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time to create the chunk for the demo module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default-value .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valid-test (lambda (x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and (numberp x) (&gt;= x 0))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warning "Non-negative number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owner 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efine-parameter :esc :owner nil)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version "1.0a1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documentation "Demo module for ICCM tutorial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:params 'demo-module-param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now need the other basic module interface fun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tion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dule’s creation function will be called every time a new model is def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will be passed one parameter which is the name of the new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must return a new instance of the module to use for that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defun create-demo-module (model-nam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make-demo-module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lete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module’s delete function will be called when the model is delet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t a clear-al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delete-model called direct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t will be passed one parameter which is the instance of the module in the current mod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return value is ignor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form any necessary cleanup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ot mandatory that one be provid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(defun delete-demo-module (demo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it-IT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et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module’s reset function will be calle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ery time a model is rese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ter the initial creation (or other times if additional reset functions are specified – see manual for detai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t will be passed one parameter which is the instance of the module in the current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return value is igno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erform any necessary initial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t mandatory that one be provid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need to create the chunk-type for our output reque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at way it will always be available (not depending on the modeler to add i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(defun reset-demo-module (demo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(chunk-type demo-output value)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gr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6840" y="1600200"/>
            <a:ext cx="2057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 those functions to the de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that’s left are the functions for the buffe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2819520" y="160020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(define-module-fct 'dem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'(create output)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(list (define-parameter :create-delay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:documentation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"time to create the chunk for the demo module"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:default-value .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:valid-test (lambda (x)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(and (numberp x) (&gt;= x 0))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:warning "Non-negative number"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:owner t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(define-parameter :esc :owner nil)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:version "1.0a1"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:documentation "Demo module for ICCM tutorial"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Courier New"/>
                <a:ea typeface="Courier New"/>
              </a:rPr>
              <a:t>   </a:t>
            </a:r>
            <a:r>
              <a:rPr b="1" lang="en-US" sz="1300" spc="-1" strike="noStrike">
                <a:solidFill>
                  <a:srgbClr val="ff0000"/>
                </a:solidFill>
                <a:latin typeface="Courier New"/>
                <a:ea typeface="Courier New"/>
              </a:rPr>
              <a:t>:creation 'create-demo-modu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Courier New"/>
                <a:ea typeface="Courier New"/>
              </a:rPr>
              <a:t>   </a:t>
            </a:r>
            <a:r>
              <a:rPr b="1" lang="en-US" sz="1300" spc="-1" strike="noStrike">
                <a:solidFill>
                  <a:srgbClr val="ff0000"/>
                </a:solidFill>
                <a:latin typeface="Courier New"/>
                <a:ea typeface="Courier New"/>
              </a:rPr>
              <a:t>:reset 'reset-demo-module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Courier New"/>
                <a:ea typeface="Courier New"/>
              </a:rPr>
              <a:t>   </a:t>
            </a:r>
            <a:r>
              <a:rPr b="1" lang="en-US" sz="1300" spc="-1" strike="noStrike">
                <a:solidFill>
                  <a:srgbClr val="ff0000"/>
                </a:solidFill>
                <a:latin typeface="Courier New"/>
                <a:ea typeface="Courier New"/>
              </a:rPr>
              <a:t>:delete 'delete-demo-modu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Courier New"/>
                <a:ea typeface="Courier New"/>
              </a:rPr>
              <a:t>   </a:t>
            </a:r>
            <a:r>
              <a:rPr b="1" lang="en-US" sz="1300" spc="-1" strike="noStrike">
                <a:solidFill>
                  <a:srgbClr val="ff0000"/>
                </a:solidFill>
                <a:latin typeface="Courier New"/>
                <a:ea typeface="Courier New"/>
              </a:rPr>
              <a:t>:params 'demo-module-param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ying the module into the produc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allow the productions (or other modules) to interact with your module you need to add buffer(s) to your mod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n specify the functions which will handle the requests and the que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que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present instant “checks” of the modu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pecified with a slot and a valu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?visual&gt; state fre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ould return immediately with true or fal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il means false anything else is tru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ust accept queries for the module’s st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ate bus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ate fr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ate err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ther queries can be provided as needed by the modu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module’s query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l be passed four para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urrent model’s instance of the modu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name of the buffer being queri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lot being queri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value to che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the Demo mo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600200"/>
            <a:ext cx="274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Only handling the required queries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We will not have any errors by the modu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ate error” queries will always be ni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e module needs to indicate it’s busy while it is building a chunk for the create buffe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ill report as busy regardless of which buffer is queried for simplicit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 like to provide warnings when bad values come 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123720" y="160020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defun demo-module-query (demo b slot valu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case slo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sta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case val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error nil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busy (demo-module-busy demo)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free (not (demo-module-busy demo))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t (print-warning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Bad state query to ~s buffer"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)))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t (print-warning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Invalid slot ~s in query to buffer ~s"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query b)))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reque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est for some action to be performed by the mod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dule can do whatever it wants in response to the requ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specific requireme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CT-R software (specific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685800" y="914400"/>
            <a:ext cx="7848720" cy="5791320"/>
          </a:xfrm>
          <a:prstGeom prst="rect">
            <a:avLst/>
          </a:prstGeom>
          <a:solidFill>
            <a:srgbClr val="7f7f7f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R 6.0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914400" y="1295280"/>
            <a:ext cx="6019920" cy="52578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Calibri"/>
              </a:rPr>
              <a:t>Lisp based 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543800" y="1143000"/>
            <a:ext cx="914400" cy="251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Calibri"/>
              </a:rPr>
              <a:t>Tcl/Tk 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eft-Right Arrow 8"/>
          <p:cNvSpPr/>
          <p:nvPr/>
        </p:nvSpPr>
        <p:spPr>
          <a:xfrm>
            <a:off x="6934320" y="1676520"/>
            <a:ext cx="609480" cy="380880"/>
          </a:xfrm>
          <a:prstGeom prst="leftRightArrow">
            <a:avLst>
              <a:gd name="adj1" fmla="val 50000"/>
              <a:gd name="adj2" fmla="val 50006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990720" y="2362320"/>
            <a:ext cx="5790960" cy="358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Calibri"/>
              </a:rPr>
              <a:t>Meta-process(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990720" y="1676520"/>
            <a:ext cx="281916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Calibri"/>
              </a:rPr>
              <a:t>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Calibri"/>
              </a:rPr>
              <a:t>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6"/>
          <p:cNvSpPr/>
          <p:nvPr/>
        </p:nvSpPr>
        <p:spPr>
          <a:xfrm>
            <a:off x="2057400" y="1752480"/>
            <a:ext cx="3808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7"/>
          <p:cNvSpPr/>
          <p:nvPr/>
        </p:nvSpPr>
        <p:spPr>
          <a:xfrm>
            <a:off x="2286000" y="1981080"/>
            <a:ext cx="3808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8"/>
          <p:cNvSpPr/>
          <p:nvPr/>
        </p:nvSpPr>
        <p:spPr>
          <a:xfrm>
            <a:off x="2514600" y="1752480"/>
            <a:ext cx="3808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9"/>
          <p:cNvSpPr/>
          <p:nvPr/>
        </p:nvSpPr>
        <p:spPr>
          <a:xfrm>
            <a:off x="7620120" y="1905120"/>
            <a:ext cx="761760" cy="30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1"/>
          <p:cNvSpPr/>
          <p:nvPr/>
        </p:nvSpPr>
        <p:spPr>
          <a:xfrm>
            <a:off x="7620120" y="2286000"/>
            <a:ext cx="761760" cy="304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7"/>
          <p:cNvSpPr/>
          <p:nvPr/>
        </p:nvSpPr>
        <p:spPr>
          <a:xfrm>
            <a:off x="3962520" y="1676520"/>
            <a:ext cx="281916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Calibri"/>
              </a:rPr>
              <a:t>Gene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Calibri"/>
              </a:rPr>
              <a:t>Lisp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28"/>
          <p:cNvSpPr/>
          <p:nvPr/>
        </p:nvSpPr>
        <p:spPr>
          <a:xfrm>
            <a:off x="5715000" y="1752480"/>
            <a:ext cx="304920" cy="152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32"/>
          <p:cNvSpPr/>
          <p:nvPr/>
        </p:nvSpPr>
        <p:spPr>
          <a:xfrm>
            <a:off x="4952880" y="1752480"/>
            <a:ext cx="304920" cy="152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3"/>
          <p:cNvSpPr/>
          <p:nvPr/>
        </p:nvSpPr>
        <p:spPr>
          <a:xfrm>
            <a:off x="5334120" y="1752480"/>
            <a:ext cx="304560" cy="152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6"/>
          <p:cNvSpPr/>
          <p:nvPr/>
        </p:nvSpPr>
        <p:spPr>
          <a:xfrm>
            <a:off x="1295280" y="6095880"/>
            <a:ext cx="51818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Calibri"/>
              </a:rPr>
              <a:t>Device 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1"/>
          <p:cNvSpPr/>
          <p:nvPr/>
        </p:nvSpPr>
        <p:spPr>
          <a:xfrm>
            <a:off x="1143000" y="2743200"/>
            <a:ext cx="4572000" cy="31240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Calibri"/>
              </a:rPr>
              <a:t>Model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nip Same Side Corner Rectangle 45"/>
          <p:cNvSpPr/>
          <p:nvPr/>
        </p:nvSpPr>
        <p:spPr>
          <a:xfrm>
            <a:off x="4724280" y="6172200"/>
            <a:ext cx="609840" cy="228600"/>
          </a:xfrm>
          <a:custGeom>
            <a:avLst/>
            <a:gdLst>
              <a:gd name="textAreaLeft" fmla="*/ 56880 w 609840"/>
              <a:gd name="textAreaRight" fmla="*/ 552960 w 609840"/>
              <a:gd name="textAreaTop" fmla="*/ 57240 h 228600"/>
              <a:gd name="textAreaBottom" fmla="*/ 228960 h 228600"/>
            </a:gdLst>
            <a:ahLst/>
            <a:rect l="textAreaLeft" t="textAreaTop" r="textAreaRight" b="textAreaBottom"/>
            <a:pathLst>
              <a:path w="609600" h="228600">
                <a:moveTo>
                  <a:pt x="114300" y="0"/>
                </a:moveTo>
                <a:lnTo>
                  <a:pt x="495300" y="0"/>
                </a:lnTo>
                <a:lnTo>
                  <a:pt x="609600" y="114300"/>
                </a:lnTo>
                <a:lnTo>
                  <a:pt x="609600" y="228600"/>
                </a:lnTo>
                <a:lnTo>
                  <a:pt x="609600" y="228600"/>
                </a:lnTo>
                <a:lnTo>
                  <a:pt x="0" y="228600"/>
                </a:lnTo>
                <a:lnTo>
                  <a:pt x="0" y="228600"/>
                </a:lnTo>
                <a:lnTo>
                  <a:pt x="0" y="1143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nip Same Side Corner Rectangle 46"/>
          <p:cNvSpPr/>
          <p:nvPr/>
        </p:nvSpPr>
        <p:spPr>
          <a:xfrm>
            <a:off x="3962520" y="6172200"/>
            <a:ext cx="609480" cy="228600"/>
          </a:xfrm>
          <a:custGeom>
            <a:avLst/>
            <a:gdLst>
              <a:gd name="textAreaLeft" fmla="*/ 56880 w 609480"/>
              <a:gd name="textAreaRight" fmla="*/ 552600 w 609480"/>
              <a:gd name="textAreaTop" fmla="*/ 57240 h 228600"/>
              <a:gd name="textAreaBottom" fmla="*/ 228960 h 228600"/>
            </a:gdLst>
            <a:ahLst/>
            <a:rect l="textAreaLeft" t="textAreaTop" r="textAreaRight" b="textAreaBottom"/>
            <a:pathLst>
              <a:path w="609600" h="228600">
                <a:moveTo>
                  <a:pt x="114300" y="0"/>
                </a:moveTo>
                <a:lnTo>
                  <a:pt x="495300" y="0"/>
                </a:lnTo>
                <a:lnTo>
                  <a:pt x="609600" y="114300"/>
                </a:lnTo>
                <a:lnTo>
                  <a:pt x="609600" y="228600"/>
                </a:lnTo>
                <a:lnTo>
                  <a:pt x="609600" y="228600"/>
                </a:lnTo>
                <a:lnTo>
                  <a:pt x="0" y="228600"/>
                </a:lnTo>
                <a:lnTo>
                  <a:pt x="0" y="228600"/>
                </a:lnTo>
                <a:lnTo>
                  <a:pt x="0" y="1143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7"/>
          <p:cNvSpPr/>
          <p:nvPr/>
        </p:nvSpPr>
        <p:spPr>
          <a:xfrm>
            <a:off x="3657600" y="2819520"/>
            <a:ext cx="990720" cy="2286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f81bd"/>
                </a:solidFill>
                <a:latin typeface="Calibri"/>
              </a:rPr>
              <a:t>Printing mo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4"/>
          <p:cNvSpPr/>
          <p:nvPr/>
        </p:nvSpPr>
        <p:spPr>
          <a:xfrm>
            <a:off x="2209680" y="4038480"/>
            <a:ext cx="1295640" cy="6098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Calibri"/>
              </a:rPr>
              <a:t>Proced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5"/>
          <p:cNvSpPr/>
          <p:nvPr/>
        </p:nvSpPr>
        <p:spPr>
          <a:xfrm>
            <a:off x="1295280" y="3124080"/>
            <a:ext cx="129564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Calibri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6"/>
          <p:cNvSpPr/>
          <p:nvPr/>
        </p:nvSpPr>
        <p:spPr>
          <a:xfrm>
            <a:off x="1371600" y="5105520"/>
            <a:ext cx="121932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Calibri"/>
              </a:rPr>
              <a:t>Mo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7"/>
          <p:cNvSpPr/>
          <p:nvPr/>
        </p:nvSpPr>
        <p:spPr>
          <a:xfrm>
            <a:off x="3200400" y="5105520"/>
            <a:ext cx="1143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Calibri"/>
              </a:rPr>
              <a:t>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8"/>
          <p:cNvSpPr/>
          <p:nvPr/>
        </p:nvSpPr>
        <p:spPr>
          <a:xfrm>
            <a:off x="3124080" y="3124080"/>
            <a:ext cx="129564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Calibri"/>
              </a:rPr>
              <a:t>Declar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eft-Right Arrow 69"/>
          <p:cNvSpPr/>
          <p:nvPr/>
        </p:nvSpPr>
        <p:spPr>
          <a:xfrm rot="18960600">
            <a:off x="3039840" y="3725640"/>
            <a:ext cx="487080" cy="172800"/>
          </a:xfrm>
          <a:prstGeom prst="leftRightArrow">
            <a:avLst>
              <a:gd name="adj1" fmla="val 50000"/>
              <a:gd name="adj2" fmla="val 5004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eft-Right Arrow 70"/>
          <p:cNvSpPr/>
          <p:nvPr/>
        </p:nvSpPr>
        <p:spPr>
          <a:xfrm rot="18960600">
            <a:off x="2049480" y="4792680"/>
            <a:ext cx="487440" cy="173160"/>
          </a:xfrm>
          <a:prstGeom prst="leftRightArrow">
            <a:avLst>
              <a:gd name="adj1" fmla="val 50000"/>
              <a:gd name="adj2" fmla="val 4997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eft-Right Arrow 71"/>
          <p:cNvSpPr/>
          <p:nvPr/>
        </p:nvSpPr>
        <p:spPr>
          <a:xfrm rot="2641800">
            <a:off x="2125800" y="3726000"/>
            <a:ext cx="487080" cy="172800"/>
          </a:xfrm>
          <a:prstGeom prst="leftRightArrow">
            <a:avLst>
              <a:gd name="adj1" fmla="val 50000"/>
              <a:gd name="adj2" fmla="val 5004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eft-Right Arrow 72"/>
          <p:cNvSpPr/>
          <p:nvPr/>
        </p:nvSpPr>
        <p:spPr>
          <a:xfrm rot="2641800">
            <a:off x="3115800" y="4792320"/>
            <a:ext cx="487440" cy="173160"/>
          </a:xfrm>
          <a:prstGeom prst="leftRightArrow">
            <a:avLst>
              <a:gd name="adj1" fmla="val 50000"/>
              <a:gd name="adj2" fmla="val 4997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Down Arrow 73"/>
          <p:cNvSpPr/>
          <p:nvPr/>
        </p:nvSpPr>
        <p:spPr>
          <a:xfrm rot="18888600">
            <a:off x="2227320" y="5457600"/>
            <a:ext cx="298440" cy="39060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Down Arrow 74"/>
          <p:cNvSpPr/>
          <p:nvPr/>
        </p:nvSpPr>
        <p:spPr>
          <a:xfrm rot="13402200">
            <a:off x="3261600" y="5452560"/>
            <a:ext cx="297000" cy="39240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5"/>
          <p:cNvSpPr/>
          <p:nvPr/>
        </p:nvSpPr>
        <p:spPr>
          <a:xfrm>
            <a:off x="4724280" y="3581280"/>
            <a:ext cx="914400" cy="1143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f81bd"/>
                </a:solidFill>
                <a:latin typeface="Calibri"/>
              </a:rPr>
              <a:t>Chunk(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6"/>
          <p:cNvSpPr/>
          <p:nvPr/>
        </p:nvSpPr>
        <p:spPr>
          <a:xfrm>
            <a:off x="4724280" y="2819520"/>
            <a:ext cx="9144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f81bd"/>
                </a:solidFill>
                <a:latin typeface="Calibri"/>
              </a:rPr>
              <a:t>Chunk-type(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7"/>
          <p:cNvSpPr/>
          <p:nvPr/>
        </p:nvSpPr>
        <p:spPr>
          <a:xfrm>
            <a:off x="4724280" y="4800600"/>
            <a:ext cx="914400" cy="990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81bd"/>
                </a:solidFill>
                <a:latin typeface="Calibri"/>
              </a:rPr>
              <a:t>Para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lowchart: Multidocument 78"/>
          <p:cNvSpPr/>
          <p:nvPr/>
        </p:nvSpPr>
        <p:spPr>
          <a:xfrm>
            <a:off x="4800600" y="5105520"/>
            <a:ext cx="380880" cy="228600"/>
          </a:xfrm>
          <a:prstGeom prst="flowChartMultidocumen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: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owchart: Multidocument 79"/>
          <p:cNvSpPr/>
          <p:nvPr/>
        </p:nvSpPr>
        <p:spPr>
          <a:xfrm>
            <a:off x="4952880" y="5486400"/>
            <a:ext cx="381240" cy="228600"/>
          </a:xfrm>
          <a:prstGeom prst="flowChartMultidocumen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:b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80"/>
          <p:cNvSpPr/>
          <p:nvPr/>
        </p:nvSpPr>
        <p:spPr>
          <a:xfrm>
            <a:off x="4800600" y="3048120"/>
            <a:ext cx="762120" cy="2286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f81bd"/>
                </a:solidFill>
                <a:latin typeface="Calibri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1"/>
          <p:cNvSpPr/>
          <p:nvPr/>
        </p:nvSpPr>
        <p:spPr>
          <a:xfrm>
            <a:off x="4800600" y="3276720"/>
            <a:ext cx="762120" cy="2286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f81bd"/>
                </a:solidFill>
                <a:latin typeface="Calibri"/>
              </a:rPr>
              <a:t>Slo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2"/>
          <p:cNvSpPr/>
          <p:nvPr/>
        </p:nvSpPr>
        <p:spPr>
          <a:xfrm>
            <a:off x="4800600" y="3809880"/>
            <a:ext cx="762120" cy="2286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f81bd"/>
                </a:solidFill>
                <a:latin typeface="Calibri"/>
              </a:rPr>
              <a:t>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3"/>
          <p:cNvSpPr/>
          <p:nvPr/>
        </p:nvSpPr>
        <p:spPr>
          <a:xfrm>
            <a:off x="4800600" y="4038480"/>
            <a:ext cx="762120" cy="2286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f81bd"/>
                </a:solidFill>
                <a:latin typeface="Calibri"/>
              </a:rPr>
              <a:t>Na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4"/>
          <p:cNvSpPr/>
          <p:nvPr/>
        </p:nvSpPr>
        <p:spPr>
          <a:xfrm>
            <a:off x="4800600" y="4267080"/>
            <a:ext cx="762120" cy="2286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f81bd"/>
                </a:solidFill>
                <a:latin typeface="Calibri"/>
              </a:rPr>
              <a:t>Slot valu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5"/>
          <p:cNvSpPr/>
          <p:nvPr/>
        </p:nvSpPr>
        <p:spPr>
          <a:xfrm>
            <a:off x="4800600" y="4495680"/>
            <a:ext cx="762120" cy="2286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f81bd"/>
                </a:solidFill>
                <a:latin typeface="Calibri"/>
              </a:rPr>
              <a:t>Paramet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nip Same Side Corner Rectangle 88"/>
          <p:cNvSpPr/>
          <p:nvPr/>
        </p:nvSpPr>
        <p:spPr>
          <a:xfrm>
            <a:off x="2590920" y="5638680"/>
            <a:ext cx="533160" cy="228600"/>
          </a:xfrm>
          <a:custGeom>
            <a:avLst/>
            <a:gdLst>
              <a:gd name="textAreaLeft" fmla="*/ 56880 w 533160"/>
              <a:gd name="textAreaRight" fmla="*/ 476280 w 533160"/>
              <a:gd name="textAreaTop" fmla="*/ 57240 h 228600"/>
              <a:gd name="textAreaBottom" fmla="*/ 228960 h 228600"/>
            </a:gdLst>
            <a:ahLst/>
            <a:rect l="textAreaLeft" t="textAreaTop" r="textAreaRight" b="textAreaBottom"/>
            <a:pathLst>
              <a:path w="533400" h="228600">
                <a:moveTo>
                  <a:pt x="114300" y="0"/>
                </a:moveTo>
                <a:lnTo>
                  <a:pt x="419100" y="0"/>
                </a:lnTo>
                <a:lnTo>
                  <a:pt x="533400" y="114300"/>
                </a:lnTo>
                <a:lnTo>
                  <a:pt x="533400" y="228600"/>
                </a:lnTo>
                <a:lnTo>
                  <a:pt x="533400" y="228600"/>
                </a:lnTo>
                <a:lnTo>
                  <a:pt x="0" y="228600"/>
                </a:lnTo>
                <a:lnTo>
                  <a:pt x="0" y="228600"/>
                </a:lnTo>
                <a:lnTo>
                  <a:pt x="0" y="1143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0"/>
          <p:cNvSpPr/>
          <p:nvPr/>
        </p:nvSpPr>
        <p:spPr>
          <a:xfrm>
            <a:off x="5791320" y="2438280"/>
            <a:ext cx="914400" cy="304920"/>
          </a:xfrm>
          <a:prstGeom prst="rect">
            <a:avLst/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1"/>
          <p:cNvSpPr/>
          <p:nvPr/>
        </p:nvSpPr>
        <p:spPr>
          <a:xfrm>
            <a:off x="5791320" y="2819520"/>
            <a:ext cx="914400" cy="16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f81bd"/>
                </a:solidFill>
                <a:latin typeface="Calibri"/>
              </a:rPr>
              <a:t>Event que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nip Single Corner Rectangle 52"/>
          <p:cNvSpPr/>
          <p:nvPr/>
        </p:nvSpPr>
        <p:spPr>
          <a:xfrm flipH="1">
            <a:off x="5942880" y="3124080"/>
            <a:ext cx="609480" cy="2286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nip Single Corner Rectangle 53"/>
          <p:cNvSpPr/>
          <p:nvPr/>
        </p:nvSpPr>
        <p:spPr>
          <a:xfrm flipH="1">
            <a:off x="5942880" y="3429000"/>
            <a:ext cx="609480" cy="2286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nip Single Corner Rectangle 54"/>
          <p:cNvSpPr/>
          <p:nvPr/>
        </p:nvSpPr>
        <p:spPr>
          <a:xfrm flipH="1">
            <a:off x="5942880" y="3733920"/>
            <a:ext cx="609480" cy="2286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odule’s request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l be passed three para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urrent model’s instance of the modu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name of the buffer to which the request wa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hunk-spe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scribing the requ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turn value of the request function is igno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chunk-spec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pecification of a chun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internal representation of what one sees in a production request (RHS +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uff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or buffer test (LHS =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uff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s the chunk-type 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ero or more test-slot-value triples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,-,&lt;,&gt;,&lt;=,&gt;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lot name symb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lot valu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hunk-spec access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low-level representation of a chunk-spec isn’t part of the AP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fic functions for accessing the components are the AP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unk-spec-chunk-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kes a chunk-sp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turns the name of the chunk-type in the chunk-sp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lot-in-chunk-spec-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kes a chunk-spec and a slot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turns non-nil if that slot is used in the chunk-sp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unk-spec-slot-spe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kes a chunk-spec and an optional slot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turns a list of slot description lists for the given slot or all slots if non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lot description list is a three element list of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est  symbo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lot name symbo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lot valu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chunk-spec us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228600" y="15238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ume we have a chunk-spec for this request from a production bound to *foo*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+visual-location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sa visual-loc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 screen-x 1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= screen-x 1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creen-x low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 screen-y 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kind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(chunk-spec-chunk-type *foo*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VISUAL-LOC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(slot-in-chunk-spec-p *foo* 'screen-x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CREEN-X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(slot-in-chunk-spec-p *foo* 'whatever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NI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(chunk-spec-slot-spec *foo*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((&gt; SCREEN-X 10) (&lt;= SCREEN-X 100) (= SCREEN-X LOWEST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(&lt; SCREEN-Y 20) (= KIND TEXT)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(chunk-spec-slot-spec *foo* 'screen-x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((&gt; SCREEN-X 10) (&lt;= SCREEN-X 100) (= SCREEN-X LOWEST)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(chunk-spec-slot-spec *foo* 'whatever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#|Warning: Slot WHATEVER is not specified in the chunk-spec. |#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NI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Request fun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228600" y="13712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efun demo-module-requests (demo buffer spec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if (eq buffer 'creat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emo-create-chunk demo spec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emo-handle-print-out spec))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efun demo-handle-print-out (spec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let* ((type (chunk-spec-chunk-type spec)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value? (slot-in-chunk-spec-p spec 'value)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v1 (when value? (chunk-spec-slot-spec spec 'value)))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if (eq type 'demo-outpu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if value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if (= (length v1) 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if (eq (caar v1) '=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(model-output "Value: ~s" (caddar v1)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odel-warning "Invalid slot modifier ~s" (caar v1))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odel-warning "Value slot specified multiple times")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odel-warning "Value slot missing in output buffer request")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odel-warning "bad chunk-type in request to output buffer")))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other chunk-spec comm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unk-spec-to-chunk-d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kes a chunk-sp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that chunk-spec only uses the = test on the slots and each slot is specified at most once it returns a list that is valid for passing to define-chunks to create a chu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ume we have a chunk-spec for this request bound to *foo*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goal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sa visual-lo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creen-x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creen-y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&gt; (chunk-spec-to-chunk-def *foo*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ISA VISUAL-LOCATION SCREEN-X 10 SCREEN-Y 20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&gt; (define-chunks-fct (list (chunk-spec-to-chunk-def *foo*))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VISUAL-LOCATION0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Content Placeholder 3"/>
          <p:cNvSpPr/>
          <p:nvPr/>
        </p:nvSpPr>
        <p:spPr>
          <a:xfrm>
            <a:off x="6248520" y="4114800"/>
            <a:ext cx="28191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 (pprint-chunks visual-location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-LOCATION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 VISUAL-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REEN-X 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REEN-Y 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ANCE  N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D  N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  N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  N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  N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TH  N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ZE  N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-create-chu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defun demo-create-chunk (demo spe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f (demo-module-busy dem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model-warning "Cannot handle request when busy"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let* ((chunk-def (chunk-spec-to-chunk-def spec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c (when chunk-d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car (define-chunks-fct (list chunk-def))))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when 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let ((delay (if (demo-module-esc demo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demo-module-delay demo) 0)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setf (demo-module-busy demo) 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; put the chunk into the buff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; and set the module back to f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; after delay seconds have pas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))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ting ev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ever a module needs to do things at a particular time it needs to generate ev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fy when the event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fy what to do at that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vents go on the queue and get executed at the appropriate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are also printed in the model’s tr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ent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ts of functions for doing 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e the reference manual for detai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’ll look at two in particu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very specific 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hedule-set-buffer-chu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eneral 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hedule-event-rela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-set-buffer-chu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(defun schedule-set-buffer-chunk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(buffer-name chunk-name time-delta &amp;key (module :none) …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…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ive it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 of a buff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 of the chun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far ahead in seconds to do the sett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module name for the tr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ll generate the event to perform that a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ows up like this in the tra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.200   DECLARATIVE            SET-BUFFER-CHUNK RETRIEVAL 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ending the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s that you can make without touching the existing code b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directories in the source tree will have all the *.lisp files compiled and loaded automatic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nvironment GUI also loads any *.tcl file in its dialogs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more details on most of this see the Reference man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-event-rela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(defun schedule-event-relative (time-delay action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key (params nil) (module :none) …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…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ive it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far ahead in seconds to do the 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function to call at that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list of parameters to pass the fun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module name for the tr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ll generate the event to perform that a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t the specified time the function will be called with those paramet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-create-chu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76320" y="1600200"/>
            <a:ext cx="9067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defun demo-create-chunk (demo spe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f (demo-module-busy dem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model-warning "Cannot handle request when busy"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let* ((chunk-def (chunk-spec-to-chunk-def spec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c (when chunk-d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car (define-chunks-fct (list chunk-def))))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when 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let ((delay (if (demo-module-esc demo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demo-module-delay demo) 0)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setf (demo-module-busy demo) 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(schedule-set-buffer-chunk 'create c dela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:module 'dem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(schedule-event-relative delay 'free-demo-mod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:params (list demo) :module 'demo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))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ish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228600" y="15998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efun free-demo-module (dem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setf (demo-module-busy demo) nil)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efine-module-fct 'demo  '(create output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list (define-parameter :create-delay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documentation "time to create the chunk for the demo module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default-value .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valid-test (lambda (x) (and (numberp x) (&gt;= x 0))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warning "Non-negative number" :owner 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efine-parameter :esc :owner nil)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version "1.0a1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documentation "Demo module for ICCM tutorial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creation 'create-demo-modu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reset 'reset-demo-modul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delete 'delete-demo-modu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params 'demo-module-param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:request 'demo-module-reques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:query 'demo-module-queri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ule comple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 covers the bas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things that can be d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e the existing modules and reference manual for examples and detai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ed all the module functions and ran a simpl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 few slides show when things are getting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nning a simple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clear-al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define-model test-demo-mod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sgp :esc t :create-delay .1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p p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creat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e f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ffer emp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==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+creat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sa visual-lo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reen-x 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reen-y 2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648320" y="1600200"/>
            <a:ext cx="4038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p p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=creat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sa visual-lo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==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+outpu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sa demo-outp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cre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trace (load tim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0" y="1294920"/>
            <a:ext cx="9067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 Loading C:\Documents and Settings\Root\Desktop\demo-model.lis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[4]: (CREATE-DEMO-MODULE TEST-DEMO-MODUL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[4]: returned #S(DEMO-MODULE :DELAY NIL :BUSY NIL :ESC NIL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[4]: (RESET-DEMO-MODULE #S(DEMO-MODULE :DELAY NIL :BUSY NIL :ESC NIL)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[4]: returned DEMO-OUTPU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[4]: (DEMO-MODULE-PARAMS #S(DEMO-MODULE :DELAY NIL :BUSY NIL :ESC NIL) (:CREATE-DELAY . 0.1)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[4]: returned 0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[4]: (DEMO-MODULE-PARAMS #S(DEMO-MODULE :DELAY 0.1 :BUSY NIL :ESC NIL) (:ESC)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[4]: returned NI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[4]: (DEMO-MODULE-PARAMS #S(DEMO-MODULE :DELAY 0.1 :BUSY NIL :ESC NIL) (:ESC . T)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[4]: returned 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[4]: (DEMO-MODULE-PARAMS #S(DEMO-MODULE :DELAY 0.1 :BUSY NIL :ESC T) (:CREATE-DELAY . 0.15)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[4]: returned 0.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trace (run tim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0" y="76212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(run .25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.000   PROCEDURAL             CONFLICT-RESOLUTI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[4]: (DEMO-MODULE-QUERIES #S(DEMO-MODULE :DELAY 0.15 :ESC T :BUSY NIL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 STATE FRE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[4]: returned 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.000   PROCEDURAL             PRODUCTION-SELECTED P1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.000   PROCEDURAL             QUERY-BUFFER-ACTION CREAT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.050   PROCEDURAL             PRODUCTION-FIRED P1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.050   PROCEDURAL             MODULE-REQUEST CREAT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[4]: (DEMO-MODULE-REQUESTS #S(DEMO-MODULE :DELAY 0.15 :ESC T :BUSY NIL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    #S(ACT-R-CHUNK-SPEC …)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[4]: returned #S(ACT-R-EVENT …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.050   PROCEDURAL             CLEAR-BUFFER CREAT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.050   PROCEDURAL             CONFLICT-RESOLUTI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[4]: (DEMO-MODULE-QUERIES #S(DEMO-MODULE :DELAY 0.15 :ESC T :BUSY T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 STATE FRE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[4]: returned NI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.200   DEMO                   SET-BUFFER-CHUNK CREATE VISUAL-LOCATION0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.200   DEMO                   FREE-DEMO-MODULE #S(DEMO-MODULE :DELAY 0.15 :ESC T :BUSY T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.200   PROCEDURAL             CONFLICT-RESOLUTI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.200   PROCEDURAL             PRODUCTION-SELECTED P2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.200   PROCEDURAL             BUFFER-READ-ACTION CREAT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.250   PROCEDURAL             PRODUCTION-FIRED P2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.250   PROCEDURAL             MODULE-REQUEST OUTPU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[4]: (DEMO-MODULE-REQUESTS #S(DEMO-MODULE :DELAY 0.15 :ESC T :BUSY NIL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 #S(ACT-R-CHUNK-SPEC …)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: VISUAL-LOCATION0-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[4]: returned NI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.250   PROCEDURAL             CLEAR-BUFFER CREAT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.250   PROCEDURAL             CLEAR-BUFFER OUTPU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.250   PROCEDURAL             CONFLICT-RESOLUTI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[4]: (DEMO-MODULE-QUERIES #S(DEMO-MODULE :DELAY 0.15 :ESC T :BUSY NIL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 STATE FRE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[4]: returned 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.250   PROCEDURAL             PRODUCTION-SELECTED P1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.250   PROCEDURAL             QUERY-BUFFER-ACTION CREAT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.250   ------                 Stopped because time limit reached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G-USER(31): (clear-all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[4]: (DELETE-DEMO-MODULE #S(DEMO-MODULE :DELAY 0.15 :BUSY NIL :ESC T)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[4]: returned NI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I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CT-R software extens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685800" y="914400"/>
            <a:ext cx="7848720" cy="5791320"/>
          </a:xfrm>
          <a:prstGeom prst="rect">
            <a:avLst/>
          </a:prstGeom>
          <a:solidFill>
            <a:srgbClr val="7f7f7f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R 6.0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914400" y="1295280"/>
            <a:ext cx="6019920" cy="52578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Calibri"/>
              </a:rPr>
              <a:t>Lisp based 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7543800" y="1143000"/>
            <a:ext cx="914400" cy="251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Calibri"/>
              </a:rPr>
              <a:t>Tcl/Tk 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eft-Right Arrow 8"/>
          <p:cNvSpPr/>
          <p:nvPr/>
        </p:nvSpPr>
        <p:spPr>
          <a:xfrm>
            <a:off x="6934320" y="1676520"/>
            <a:ext cx="609480" cy="380880"/>
          </a:xfrm>
          <a:prstGeom prst="leftRightArrow">
            <a:avLst>
              <a:gd name="adj1" fmla="val 50000"/>
              <a:gd name="adj2" fmla="val 50006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990720" y="2362320"/>
            <a:ext cx="5790960" cy="358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Calibri"/>
              </a:rPr>
              <a:t>Meta-process(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990720" y="1676520"/>
            <a:ext cx="281916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Calibri"/>
              </a:rPr>
              <a:t>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Calibri"/>
              </a:rPr>
              <a:t>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6"/>
          <p:cNvSpPr/>
          <p:nvPr/>
        </p:nvSpPr>
        <p:spPr>
          <a:xfrm>
            <a:off x="2057400" y="1752480"/>
            <a:ext cx="3808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7"/>
          <p:cNvSpPr/>
          <p:nvPr/>
        </p:nvSpPr>
        <p:spPr>
          <a:xfrm>
            <a:off x="2286000" y="1981080"/>
            <a:ext cx="3808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8"/>
          <p:cNvSpPr/>
          <p:nvPr/>
        </p:nvSpPr>
        <p:spPr>
          <a:xfrm>
            <a:off x="2514600" y="1752480"/>
            <a:ext cx="3808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9"/>
          <p:cNvSpPr/>
          <p:nvPr/>
        </p:nvSpPr>
        <p:spPr>
          <a:xfrm>
            <a:off x="7620120" y="1905120"/>
            <a:ext cx="761760" cy="30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1"/>
          <p:cNvSpPr/>
          <p:nvPr/>
        </p:nvSpPr>
        <p:spPr>
          <a:xfrm>
            <a:off x="7620120" y="2286000"/>
            <a:ext cx="761760" cy="304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7"/>
          <p:cNvSpPr/>
          <p:nvPr/>
        </p:nvSpPr>
        <p:spPr>
          <a:xfrm>
            <a:off x="3962520" y="1676520"/>
            <a:ext cx="281916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Calibri"/>
              </a:rPr>
              <a:t>Gene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Calibri"/>
              </a:rPr>
              <a:t>Lisp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ounded Rectangle 28"/>
          <p:cNvSpPr/>
          <p:nvPr/>
        </p:nvSpPr>
        <p:spPr>
          <a:xfrm>
            <a:off x="5715000" y="1752480"/>
            <a:ext cx="304920" cy="152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ounded Rectangle 32"/>
          <p:cNvSpPr/>
          <p:nvPr/>
        </p:nvSpPr>
        <p:spPr>
          <a:xfrm>
            <a:off x="4952880" y="1752480"/>
            <a:ext cx="304920" cy="152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ounded Rectangle 33"/>
          <p:cNvSpPr/>
          <p:nvPr/>
        </p:nvSpPr>
        <p:spPr>
          <a:xfrm>
            <a:off x="5334120" y="1752480"/>
            <a:ext cx="304560" cy="152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6"/>
          <p:cNvSpPr/>
          <p:nvPr/>
        </p:nvSpPr>
        <p:spPr>
          <a:xfrm>
            <a:off x="1295280" y="6095880"/>
            <a:ext cx="51818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Calibri"/>
              </a:rPr>
              <a:t>Device 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1"/>
          <p:cNvSpPr/>
          <p:nvPr/>
        </p:nvSpPr>
        <p:spPr>
          <a:xfrm>
            <a:off x="1143000" y="2743200"/>
            <a:ext cx="4572000" cy="31240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Calibri"/>
              </a:rPr>
              <a:t>Model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nip Same Side Corner Rectangle 45"/>
          <p:cNvSpPr/>
          <p:nvPr/>
        </p:nvSpPr>
        <p:spPr>
          <a:xfrm>
            <a:off x="3962520" y="6172200"/>
            <a:ext cx="609480" cy="228600"/>
          </a:xfrm>
          <a:custGeom>
            <a:avLst/>
            <a:gdLst>
              <a:gd name="textAreaLeft" fmla="*/ 56880 w 609480"/>
              <a:gd name="textAreaRight" fmla="*/ 552600 w 609480"/>
              <a:gd name="textAreaTop" fmla="*/ 57240 h 228600"/>
              <a:gd name="textAreaBottom" fmla="*/ 228960 h 228600"/>
            </a:gdLst>
            <a:ahLst/>
            <a:rect l="textAreaLeft" t="textAreaTop" r="textAreaRight" b="textAreaBottom"/>
            <a:pathLst>
              <a:path w="609600" h="228600">
                <a:moveTo>
                  <a:pt x="114300" y="0"/>
                </a:moveTo>
                <a:lnTo>
                  <a:pt x="495300" y="0"/>
                </a:lnTo>
                <a:lnTo>
                  <a:pt x="609600" y="114300"/>
                </a:lnTo>
                <a:lnTo>
                  <a:pt x="609600" y="228600"/>
                </a:lnTo>
                <a:lnTo>
                  <a:pt x="609600" y="228600"/>
                </a:lnTo>
                <a:lnTo>
                  <a:pt x="0" y="228600"/>
                </a:lnTo>
                <a:lnTo>
                  <a:pt x="0" y="228600"/>
                </a:lnTo>
                <a:lnTo>
                  <a:pt x="0" y="1143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nip Same Side Corner Rectangle 46"/>
          <p:cNvSpPr/>
          <p:nvPr/>
        </p:nvSpPr>
        <p:spPr>
          <a:xfrm>
            <a:off x="4724280" y="6172200"/>
            <a:ext cx="609840" cy="228600"/>
          </a:xfrm>
          <a:custGeom>
            <a:avLst/>
            <a:gdLst>
              <a:gd name="textAreaLeft" fmla="*/ 56880 w 609840"/>
              <a:gd name="textAreaRight" fmla="*/ 552960 w 609840"/>
              <a:gd name="textAreaTop" fmla="*/ 57240 h 228600"/>
              <a:gd name="textAreaBottom" fmla="*/ 228960 h 228600"/>
            </a:gdLst>
            <a:ahLst/>
            <a:rect l="textAreaLeft" t="textAreaTop" r="textAreaRight" b="textAreaBottom"/>
            <a:pathLst>
              <a:path w="609600" h="228600">
                <a:moveTo>
                  <a:pt x="114300" y="0"/>
                </a:moveTo>
                <a:lnTo>
                  <a:pt x="495300" y="0"/>
                </a:lnTo>
                <a:lnTo>
                  <a:pt x="609600" y="114300"/>
                </a:lnTo>
                <a:lnTo>
                  <a:pt x="609600" y="228600"/>
                </a:lnTo>
                <a:lnTo>
                  <a:pt x="609600" y="228600"/>
                </a:lnTo>
                <a:lnTo>
                  <a:pt x="0" y="228600"/>
                </a:lnTo>
                <a:lnTo>
                  <a:pt x="0" y="228600"/>
                </a:lnTo>
                <a:lnTo>
                  <a:pt x="0" y="1143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7"/>
          <p:cNvSpPr/>
          <p:nvPr/>
        </p:nvSpPr>
        <p:spPr>
          <a:xfrm>
            <a:off x="3657600" y="2819520"/>
            <a:ext cx="990720" cy="2286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f81bd"/>
                </a:solidFill>
                <a:latin typeface="Calibri"/>
              </a:rPr>
              <a:t>Printing mo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4"/>
          <p:cNvSpPr/>
          <p:nvPr/>
        </p:nvSpPr>
        <p:spPr>
          <a:xfrm>
            <a:off x="2209680" y="4038480"/>
            <a:ext cx="1295640" cy="6098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Calibri"/>
              </a:rPr>
              <a:t>Proced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5"/>
          <p:cNvSpPr/>
          <p:nvPr/>
        </p:nvSpPr>
        <p:spPr>
          <a:xfrm>
            <a:off x="1295280" y="3124080"/>
            <a:ext cx="129564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Calibri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6"/>
          <p:cNvSpPr/>
          <p:nvPr/>
        </p:nvSpPr>
        <p:spPr>
          <a:xfrm>
            <a:off x="1371600" y="5105520"/>
            <a:ext cx="121932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Calibri"/>
              </a:rPr>
              <a:t>Mo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7"/>
          <p:cNvSpPr/>
          <p:nvPr/>
        </p:nvSpPr>
        <p:spPr>
          <a:xfrm>
            <a:off x="3200400" y="5105520"/>
            <a:ext cx="1143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Calibri"/>
              </a:rPr>
              <a:t>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8"/>
          <p:cNvSpPr/>
          <p:nvPr/>
        </p:nvSpPr>
        <p:spPr>
          <a:xfrm>
            <a:off x="3124080" y="3124080"/>
            <a:ext cx="129564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Calibri"/>
              </a:rPr>
              <a:t>Declar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eft-Right Arrow 69"/>
          <p:cNvSpPr/>
          <p:nvPr/>
        </p:nvSpPr>
        <p:spPr>
          <a:xfrm rot="18960600">
            <a:off x="3039840" y="3725640"/>
            <a:ext cx="487080" cy="172800"/>
          </a:xfrm>
          <a:prstGeom prst="leftRightArrow">
            <a:avLst>
              <a:gd name="adj1" fmla="val 50000"/>
              <a:gd name="adj2" fmla="val 5004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eft-Right Arrow 70"/>
          <p:cNvSpPr/>
          <p:nvPr/>
        </p:nvSpPr>
        <p:spPr>
          <a:xfrm rot="18960600">
            <a:off x="2049480" y="4792680"/>
            <a:ext cx="487440" cy="173160"/>
          </a:xfrm>
          <a:prstGeom prst="leftRightArrow">
            <a:avLst>
              <a:gd name="adj1" fmla="val 50000"/>
              <a:gd name="adj2" fmla="val 4997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eft-Right Arrow 71"/>
          <p:cNvSpPr/>
          <p:nvPr/>
        </p:nvSpPr>
        <p:spPr>
          <a:xfrm rot="2641800">
            <a:off x="2125800" y="3726000"/>
            <a:ext cx="487080" cy="172800"/>
          </a:xfrm>
          <a:prstGeom prst="leftRightArrow">
            <a:avLst>
              <a:gd name="adj1" fmla="val 50000"/>
              <a:gd name="adj2" fmla="val 5004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eft-Right Arrow 72"/>
          <p:cNvSpPr/>
          <p:nvPr/>
        </p:nvSpPr>
        <p:spPr>
          <a:xfrm rot="2641800">
            <a:off x="3115800" y="4792320"/>
            <a:ext cx="487440" cy="173160"/>
          </a:xfrm>
          <a:prstGeom prst="leftRightArrow">
            <a:avLst>
              <a:gd name="adj1" fmla="val 50000"/>
              <a:gd name="adj2" fmla="val 4997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Down Arrow 73"/>
          <p:cNvSpPr/>
          <p:nvPr/>
        </p:nvSpPr>
        <p:spPr>
          <a:xfrm rot="18888600">
            <a:off x="2227320" y="5457600"/>
            <a:ext cx="298440" cy="39060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wn Arrow 74"/>
          <p:cNvSpPr/>
          <p:nvPr/>
        </p:nvSpPr>
        <p:spPr>
          <a:xfrm rot="13402200">
            <a:off x="3261600" y="5452560"/>
            <a:ext cx="297000" cy="39240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ounded Rectangle 48"/>
          <p:cNvSpPr/>
          <p:nvPr/>
        </p:nvSpPr>
        <p:spPr>
          <a:xfrm>
            <a:off x="6095880" y="1752480"/>
            <a:ext cx="304920" cy="15264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49"/>
          <p:cNvSpPr/>
          <p:nvPr/>
        </p:nvSpPr>
        <p:spPr>
          <a:xfrm>
            <a:off x="2971800" y="1752480"/>
            <a:ext cx="380880" cy="15264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2"/>
          <p:cNvSpPr/>
          <p:nvPr/>
        </p:nvSpPr>
        <p:spPr>
          <a:xfrm>
            <a:off x="2514600" y="2819520"/>
            <a:ext cx="990720" cy="22860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53"/>
          <p:cNvSpPr/>
          <p:nvPr/>
        </p:nvSpPr>
        <p:spPr>
          <a:xfrm>
            <a:off x="5029200" y="1981080"/>
            <a:ext cx="304920" cy="15264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lowchart: Multidocument 57"/>
          <p:cNvSpPr/>
          <p:nvPr/>
        </p:nvSpPr>
        <p:spPr>
          <a:xfrm>
            <a:off x="5257800" y="5105520"/>
            <a:ext cx="304920" cy="152280"/>
          </a:xfrm>
          <a:prstGeom prst="flowChartMultidocumen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0"/>
          <p:cNvSpPr/>
          <p:nvPr/>
        </p:nvSpPr>
        <p:spPr>
          <a:xfrm>
            <a:off x="3962520" y="4191120"/>
            <a:ext cx="685800" cy="30456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eft-Right Arrow 63"/>
          <p:cNvSpPr/>
          <p:nvPr/>
        </p:nvSpPr>
        <p:spPr>
          <a:xfrm>
            <a:off x="3581280" y="4267080"/>
            <a:ext cx="304920" cy="173160"/>
          </a:xfrm>
          <a:prstGeom prst="leftRightArrow">
            <a:avLst>
              <a:gd name="adj1" fmla="val 50000"/>
              <a:gd name="adj2" fmla="val 49982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75"/>
          <p:cNvSpPr/>
          <p:nvPr/>
        </p:nvSpPr>
        <p:spPr>
          <a:xfrm>
            <a:off x="3276720" y="1981080"/>
            <a:ext cx="380880" cy="15264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ounded Rectangle 76"/>
          <p:cNvSpPr/>
          <p:nvPr/>
        </p:nvSpPr>
        <p:spPr>
          <a:xfrm>
            <a:off x="5486400" y="1981080"/>
            <a:ext cx="304920" cy="15264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lowchart: Multidocument 77"/>
          <p:cNvSpPr/>
          <p:nvPr/>
        </p:nvSpPr>
        <p:spPr>
          <a:xfrm>
            <a:off x="5257800" y="5334120"/>
            <a:ext cx="304920" cy="152280"/>
          </a:xfrm>
          <a:prstGeom prst="flowChartMultidocumen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80"/>
          <p:cNvSpPr/>
          <p:nvPr/>
        </p:nvSpPr>
        <p:spPr>
          <a:xfrm>
            <a:off x="4724280" y="3581280"/>
            <a:ext cx="914400" cy="1143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f81bd"/>
                </a:solidFill>
                <a:latin typeface="Calibri"/>
              </a:rPr>
              <a:t>Chunk(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1"/>
          <p:cNvSpPr/>
          <p:nvPr/>
        </p:nvSpPr>
        <p:spPr>
          <a:xfrm>
            <a:off x="4724280" y="2819520"/>
            <a:ext cx="9144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f81bd"/>
                </a:solidFill>
                <a:latin typeface="Calibri"/>
              </a:rPr>
              <a:t>Chunk-type(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82"/>
          <p:cNvSpPr/>
          <p:nvPr/>
        </p:nvSpPr>
        <p:spPr>
          <a:xfrm>
            <a:off x="4724280" y="4800600"/>
            <a:ext cx="914400" cy="990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81bd"/>
                </a:solidFill>
                <a:latin typeface="Calibri"/>
              </a:rPr>
              <a:t>Para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lowchart: Multidocument 83"/>
          <p:cNvSpPr/>
          <p:nvPr/>
        </p:nvSpPr>
        <p:spPr>
          <a:xfrm>
            <a:off x="4800600" y="5105520"/>
            <a:ext cx="380880" cy="228600"/>
          </a:xfrm>
          <a:prstGeom prst="flowChartMultidocumen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: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lowchart: Multidocument 84"/>
          <p:cNvSpPr/>
          <p:nvPr/>
        </p:nvSpPr>
        <p:spPr>
          <a:xfrm>
            <a:off x="4952880" y="5486400"/>
            <a:ext cx="381240" cy="228600"/>
          </a:xfrm>
          <a:prstGeom prst="flowChartMultidocumen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:b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85"/>
          <p:cNvSpPr/>
          <p:nvPr/>
        </p:nvSpPr>
        <p:spPr>
          <a:xfrm>
            <a:off x="4800600" y="3048120"/>
            <a:ext cx="762120" cy="2286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f81bd"/>
                </a:solidFill>
                <a:latin typeface="Calibri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86"/>
          <p:cNvSpPr/>
          <p:nvPr/>
        </p:nvSpPr>
        <p:spPr>
          <a:xfrm>
            <a:off x="4800600" y="3276720"/>
            <a:ext cx="762120" cy="2286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f81bd"/>
                </a:solidFill>
                <a:latin typeface="Calibri"/>
              </a:rPr>
              <a:t>Slo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87"/>
          <p:cNvSpPr/>
          <p:nvPr/>
        </p:nvSpPr>
        <p:spPr>
          <a:xfrm>
            <a:off x="4800600" y="3809880"/>
            <a:ext cx="762120" cy="2286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f81bd"/>
                </a:solidFill>
                <a:latin typeface="Calibri"/>
              </a:rPr>
              <a:t>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8"/>
          <p:cNvSpPr/>
          <p:nvPr/>
        </p:nvSpPr>
        <p:spPr>
          <a:xfrm>
            <a:off x="4800600" y="4038480"/>
            <a:ext cx="762120" cy="2286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f81bd"/>
                </a:solidFill>
                <a:latin typeface="Calibri"/>
              </a:rPr>
              <a:t>Na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89"/>
          <p:cNvSpPr/>
          <p:nvPr/>
        </p:nvSpPr>
        <p:spPr>
          <a:xfrm>
            <a:off x="4800600" y="4267080"/>
            <a:ext cx="762120" cy="2286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f81bd"/>
                </a:solidFill>
                <a:latin typeface="Calibri"/>
              </a:rPr>
              <a:t>Slot valu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90"/>
          <p:cNvSpPr/>
          <p:nvPr/>
        </p:nvSpPr>
        <p:spPr>
          <a:xfrm>
            <a:off x="4800600" y="4495680"/>
            <a:ext cx="762120" cy="2286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f81bd"/>
                </a:solidFill>
                <a:latin typeface="Calibri"/>
              </a:rPr>
              <a:t>Paramet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Cross 91"/>
          <p:cNvSpPr/>
          <p:nvPr/>
        </p:nvSpPr>
        <p:spPr>
          <a:xfrm>
            <a:off x="5105520" y="4495680"/>
            <a:ext cx="228600" cy="228600"/>
          </a:xfrm>
          <a:prstGeom prst="plus">
            <a:avLst>
              <a:gd name="adj" fmla="val 41861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92"/>
          <p:cNvSpPr/>
          <p:nvPr/>
        </p:nvSpPr>
        <p:spPr>
          <a:xfrm>
            <a:off x="2209680" y="4495680"/>
            <a:ext cx="838440" cy="15264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ut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93"/>
          <p:cNvSpPr/>
          <p:nvPr/>
        </p:nvSpPr>
        <p:spPr>
          <a:xfrm>
            <a:off x="3124080" y="3429000"/>
            <a:ext cx="838440" cy="15228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cti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eft-Right Arrow 94"/>
          <p:cNvSpPr/>
          <p:nvPr/>
        </p:nvSpPr>
        <p:spPr>
          <a:xfrm rot="18960600">
            <a:off x="2049480" y="4792680"/>
            <a:ext cx="487440" cy="173160"/>
          </a:xfrm>
          <a:prstGeom prst="leftRightArrow">
            <a:avLst>
              <a:gd name="adj1" fmla="val 50000"/>
              <a:gd name="adj2" fmla="val 49979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nip Same Side Corner Rectangle 95"/>
          <p:cNvSpPr/>
          <p:nvPr/>
        </p:nvSpPr>
        <p:spPr>
          <a:xfrm>
            <a:off x="5638680" y="6172200"/>
            <a:ext cx="609840" cy="228600"/>
          </a:xfrm>
          <a:custGeom>
            <a:avLst/>
            <a:gdLst>
              <a:gd name="textAreaLeft" fmla="*/ 56880 w 609840"/>
              <a:gd name="textAreaRight" fmla="*/ 552960 w 609840"/>
              <a:gd name="textAreaTop" fmla="*/ 57240 h 228600"/>
              <a:gd name="textAreaBottom" fmla="*/ 228960 h 228600"/>
            </a:gdLst>
            <a:ahLst/>
            <a:rect l="textAreaLeft" t="textAreaTop" r="textAreaRight" b="textAreaBottom"/>
            <a:pathLst>
              <a:path w="609600" h="228600">
                <a:moveTo>
                  <a:pt x="114300" y="0"/>
                </a:moveTo>
                <a:lnTo>
                  <a:pt x="495300" y="0"/>
                </a:lnTo>
                <a:lnTo>
                  <a:pt x="609600" y="114300"/>
                </a:lnTo>
                <a:lnTo>
                  <a:pt x="609600" y="228600"/>
                </a:lnTo>
                <a:lnTo>
                  <a:pt x="609600" y="228600"/>
                </a:lnTo>
                <a:lnTo>
                  <a:pt x="0" y="228600"/>
                </a:lnTo>
                <a:lnTo>
                  <a:pt x="0" y="228600"/>
                </a:lnTo>
                <a:lnTo>
                  <a:pt x="0" y="114300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eft-Right Arrow 96"/>
          <p:cNvSpPr/>
          <p:nvPr/>
        </p:nvSpPr>
        <p:spPr>
          <a:xfrm>
            <a:off x="6248520" y="6172200"/>
            <a:ext cx="1143000" cy="228600"/>
          </a:xfrm>
          <a:prstGeom prst="leftRightArrow">
            <a:avLst>
              <a:gd name="adj1" fmla="val 25259"/>
              <a:gd name="adj2" fmla="val 83519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160" bIns="11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97"/>
          <p:cNvSpPr/>
          <p:nvPr/>
        </p:nvSpPr>
        <p:spPr>
          <a:xfrm>
            <a:off x="7391520" y="5867280"/>
            <a:ext cx="914400" cy="68580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External</a:t>
            </a:r>
            <a:r>
              <a:rPr b="0" lang="en-US" sz="18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Down Arrow 98"/>
          <p:cNvSpPr/>
          <p:nvPr/>
        </p:nvSpPr>
        <p:spPr>
          <a:xfrm rot="18888600">
            <a:off x="2227320" y="5457600"/>
            <a:ext cx="298440" cy="39060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Down Arrow 99"/>
          <p:cNvSpPr/>
          <p:nvPr/>
        </p:nvSpPr>
        <p:spPr>
          <a:xfrm rot="13402200">
            <a:off x="3258720" y="5458680"/>
            <a:ext cx="297000" cy="384120"/>
          </a:xfrm>
          <a:prstGeom prst="downArrow">
            <a:avLst>
              <a:gd name="adj1" fmla="val 50000"/>
              <a:gd name="adj2" fmla="val 49967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3"/>
          <p:cNvSpPr/>
          <p:nvPr/>
        </p:nvSpPr>
        <p:spPr>
          <a:xfrm>
            <a:off x="7620120" y="2971800"/>
            <a:ext cx="761760" cy="30492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ounded Rectangle 104"/>
          <p:cNvSpPr/>
          <p:nvPr/>
        </p:nvSpPr>
        <p:spPr>
          <a:xfrm>
            <a:off x="6019920" y="1981080"/>
            <a:ext cx="304560" cy="15264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nip Same Side Corner Rectangle 107"/>
          <p:cNvSpPr/>
          <p:nvPr/>
        </p:nvSpPr>
        <p:spPr>
          <a:xfrm>
            <a:off x="2590920" y="5638680"/>
            <a:ext cx="533160" cy="228600"/>
          </a:xfrm>
          <a:custGeom>
            <a:avLst/>
            <a:gdLst>
              <a:gd name="textAreaLeft" fmla="*/ 56880 w 533160"/>
              <a:gd name="textAreaRight" fmla="*/ 476280 w 533160"/>
              <a:gd name="textAreaTop" fmla="*/ 57240 h 228600"/>
              <a:gd name="textAreaBottom" fmla="*/ 228960 h 228600"/>
            </a:gdLst>
            <a:ahLst/>
            <a:rect l="textAreaLeft" t="textAreaTop" r="textAreaRight" b="textAreaBottom"/>
            <a:pathLst>
              <a:path w="533400" h="228600">
                <a:moveTo>
                  <a:pt x="114300" y="0"/>
                </a:moveTo>
                <a:lnTo>
                  <a:pt x="419100" y="0"/>
                </a:lnTo>
                <a:lnTo>
                  <a:pt x="533400" y="114300"/>
                </a:lnTo>
                <a:lnTo>
                  <a:pt x="533400" y="228600"/>
                </a:lnTo>
                <a:lnTo>
                  <a:pt x="533400" y="228600"/>
                </a:lnTo>
                <a:lnTo>
                  <a:pt x="0" y="228600"/>
                </a:lnTo>
                <a:lnTo>
                  <a:pt x="0" y="228600"/>
                </a:lnTo>
                <a:lnTo>
                  <a:pt x="0" y="1143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nip Same Side Corner Rectangle 108"/>
          <p:cNvSpPr/>
          <p:nvPr/>
        </p:nvSpPr>
        <p:spPr>
          <a:xfrm>
            <a:off x="2590920" y="5638680"/>
            <a:ext cx="533160" cy="228600"/>
          </a:xfrm>
          <a:custGeom>
            <a:avLst/>
            <a:gdLst>
              <a:gd name="textAreaLeft" fmla="*/ 56880 w 533160"/>
              <a:gd name="textAreaRight" fmla="*/ 476280 w 533160"/>
              <a:gd name="textAreaTop" fmla="*/ 57240 h 228600"/>
              <a:gd name="textAreaBottom" fmla="*/ 228960 h 228600"/>
            </a:gdLst>
            <a:ahLst/>
            <a:rect l="textAreaLeft" t="textAreaTop" r="textAreaRight" b="textAreaBottom"/>
            <a:pathLst>
              <a:path w="533400" h="228600">
                <a:moveTo>
                  <a:pt x="114300" y="0"/>
                </a:moveTo>
                <a:lnTo>
                  <a:pt x="419100" y="0"/>
                </a:lnTo>
                <a:lnTo>
                  <a:pt x="533400" y="114300"/>
                </a:lnTo>
                <a:lnTo>
                  <a:pt x="533400" y="228600"/>
                </a:lnTo>
                <a:lnTo>
                  <a:pt x="533400" y="228600"/>
                </a:lnTo>
                <a:lnTo>
                  <a:pt x="0" y="228600"/>
                </a:lnTo>
                <a:lnTo>
                  <a:pt x="0" y="228600"/>
                </a:lnTo>
                <a:lnTo>
                  <a:pt x="0" y="114300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8"/>
          <p:cNvSpPr/>
          <p:nvPr/>
        </p:nvSpPr>
        <p:spPr>
          <a:xfrm>
            <a:off x="5791320" y="2438280"/>
            <a:ext cx="914400" cy="304920"/>
          </a:xfrm>
          <a:prstGeom prst="rect">
            <a:avLst/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9"/>
          <p:cNvSpPr/>
          <p:nvPr/>
        </p:nvSpPr>
        <p:spPr>
          <a:xfrm>
            <a:off x="5791320" y="2819520"/>
            <a:ext cx="914400" cy="16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f81bd"/>
                </a:solidFill>
                <a:latin typeface="Calibri"/>
              </a:rPr>
              <a:t>Event que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nip Single Corner Rectangle 100"/>
          <p:cNvSpPr/>
          <p:nvPr/>
        </p:nvSpPr>
        <p:spPr>
          <a:xfrm flipH="1">
            <a:off x="5942880" y="3124080"/>
            <a:ext cx="609480" cy="2286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nip Single Corner Rectangle 101"/>
          <p:cNvSpPr/>
          <p:nvPr/>
        </p:nvSpPr>
        <p:spPr>
          <a:xfrm flipH="1">
            <a:off x="5942880" y="3429000"/>
            <a:ext cx="609480" cy="2286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nip Single Corner Rectangle 102"/>
          <p:cNvSpPr/>
          <p:nvPr/>
        </p:nvSpPr>
        <p:spPr>
          <a:xfrm flipH="1">
            <a:off x="5942880" y="3733920"/>
            <a:ext cx="609480" cy="2286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9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9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9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0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0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0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0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0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0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2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2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2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3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3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4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4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4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4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5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6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6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8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8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8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8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8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8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8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8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9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0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0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0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1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2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2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2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2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3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3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3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3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4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4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4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4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4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4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4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y default a device expected to accept/provi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Keyboard output (from mod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ne button mouse contr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vement (from mode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output (from mode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port its current position (to mode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peech output (from mod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isual-location information (to mod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eatur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isual object information (to mod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iven one of the featur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a devic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ything can be a dev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asic typ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umbers, strings, lists, symbols,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ruc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OS clas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ever value is passed to install-device will be considered the current device for the mod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makes it a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vali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device is that it have the appropriate methods defined for i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is the methods that allow the device to wor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16:53:21Z</dcterms:created>
  <dc:creator> </dc:creator>
  <dc:description/>
  <dc:language>en-US</dc:language>
  <cp:lastModifiedBy>Dan Bothell</cp:lastModifiedBy>
  <dcterms:modified xsi:type="dcterms:W3CDTF">2011-07-28T20:17:19Z</dcterms:modified>
  <cp:revision>217</cp:revision>
  <dc:subject/>
  <dc:title>Extending ACT-R 6.0</dc:title>
</cp:coreProperties>
</file>